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CAE-33F7-462B-A5A7-84975A37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750-98AD-44F6-89CE-FF118740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F91-8FCE-431C-8F1B-63EAD885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401-7277-4F25-B445-4D850BCE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3A5-4249-4253-9226-74785C5A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61AD-EE10-4E9F-9282-53066623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79A-2328-459C-9ABD-36F6D8D4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51C-E23E-4A28-A3B3-1016E9D3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27E-7B03-49B4-97BB-8B3FEBE4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334-52A5-4ECC-8B6F-28B9BD04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4F1-656E-4AD2-9DAC-39984CE9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21A-D9A6-40A5-A3B6-7542E6AB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B5E1-97CB-41B2-BCC6-C02A6C83B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ctober 5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A33-74FE-4BEE-B50A-024E07D8B1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Voting Item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WG submitted to COPS and COPS recommends to TAC approval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PGRR0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moval of Gray-Highlighte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99"/>
                </a:solidFill>
                <a:uFillTx/>
                <a:latin typeface="Times New Roman"/>
              </a:rPr>
              <a:t>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</a:rPr>
              <a:t>http://www.ercot.com/mktrules/issues/lpgrr/000-024/023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45F-0F5A-4755-8BEA-C5D5B3D66D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R720 TRE Fee Methodolo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llowing Discussion and review, COPS set up an Ad Hoc Committee to work with Staff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mplify the calculation of TREF and bi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ave personnel other than Settlements perform the billing and segregate TRE activity from ISP Protoc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mplement the change in process with the least intrusion to existing proces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velop a process for reconciling TRE costs vs TREF coll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Legal, ISO, and TRE Staff, are involved in the discussions with COPS Ad Hoc members – Process is proceeding as we resolve and clarify iss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75F-3F4F-4456-8116-6DFD095D32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R720 TRE Fee Methodolo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llowing Discussion and review, COPS set up an Ad Hoc Committee to work with Staff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mplify the calculation of TREF and bi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ave personnel other than Settlements perform the billing and segregate TRE activity from ISP Protoc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mplement the change in process with the least intrusion to existing proces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velop a process for reconciling TRE costs vs TREF coll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Legal, ISO, and TRE Staff, are involved in the discussions with COPS Ad Hoc members – Process is proceeding as we resolve and clarify iss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E41-B23D-429E-8813-768E8BB8B1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EDD-D2A5-4E8A-BD7E-CEE1211A2B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ata Extract Working Group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DE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EWG Met on 7/30; 8/27; &amp; 9/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viewed staff response to extract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dentified root cause of extract posting issues and corrective actions implemented by ERCOT Sta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tracts Service Level Agreement (S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ocus on developing a SLA document to add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Timelines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 /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Completeness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/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Accuracy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/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Avail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stablished 3 priority levels for reports/ex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xtract &amp; Report Information Gu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Matrix Identifying Extract or Report; Definition; Purpose; SLA Priority;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F028-5641-469A-952B-75307A6621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WG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CR 727 ESIID Service History &amp; Usage Extract              Re-Baseline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50024_01 SCR727 Phase II (SCR 740) is in “Closing” sta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nce the Re-Baseline web service is in production, the current SCR 727 Historical Data Request process will be discontinued (Data files back to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hat is the minimal amount of service history and usage data for ESIIDs owned by MP needed?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(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Today MPs have service history and usage for ESIIDs they own from 7/31/2001 to current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nsensus of DEWG was to have staff provide an analysis of feasibility and cost to maintain 24 months Service History and Usage Extr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9135-CF2A-4015-AEA0-8BA3EFF329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and Data Acquisition Working Group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SDAWG)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Nodal Impac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ing Commercial Operations Data Extract Changes (DAM; CRR; RT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 Calend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oad, Generation, and Settlements and Billing Ex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mall Generation – Settlement Issues (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B 3693 – Sections 24 &amp;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28A-5F9A-414C-B04B-BA27508E1B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PS Communication Working Group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C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view of Notific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orking as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No need for changes at this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mpleted final review of COPMGRR005, creating “Section 11, Extracts and Repor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mpact Analysis – No System 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C4F-99A9-4DDC-8EE7-17A178A6E8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Voting Item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CWG submitted to COPS and COPS recommends to TAC approval of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PMGRR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guide revision Creating Section 11, Extracts and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00cc99"/>
                </a:solidFill>
                <a:uFillTx/>
                <a:latin typeface="Times New Roman"/>
              </a:rPr>
              <a:t>VO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75C-DB1C-4BFA-9D0B-5C43F4EEFE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ofile Working Group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 (PWG)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91540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2A7D-6590-4942-AD56-C003DD2547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file Working Group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(PWG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nnual Validation Update – On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ound 2 – Load research sample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stallations to be completed by 6/30/0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5 % of Round 2 sample have IDRs insta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LC and Demand Response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ubmitted PRR 736 to PRS (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RS tabled until implementation issues are resolved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WG to work directly with “Texas Set” to resolve implementation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3D4-7D96-4079-9243-A376DD87F7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Voting Item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228960" y="152388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WG submitted to COPS and COPS recommends to TAC approval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PGRR0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odel Spreadsheets for Flat Load Profile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cc99"/>
                </a:solidFill>
                <a:uFillTx/>
                <a:latin typeface="Times New Roman"/>
              </a:rPr>
              <a:t>VO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</a:rPr>
              <a:t>http://www.ercot.com/mktrules/issues/lpgrr/025-049/025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FDC-20D9-45D5-A4FB-F0482D1349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starr</cp:lastModifiedBy>
  <dcterms:modified xsi:type="dcterms:W3CDTF">2007-09-27T21:10:41Z</dcterms:modified>
  <cp:revision>227</cp:revision>
  <dc:subject/>
  <dc:title>Point-to-Point</dc:title>
</cp:coreProperties>
</file>